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0793-7BF4-4376-82AE-00D9166C4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C228-FFA4-4C95-AA40-63DDD48FF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1B84-2C77-4597-944E-A876C2563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6763-E80E-41BE-83F6-CCE25F08B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3ED6C-840A-45BF-93F3-E735FEC75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A36BF-A40F-4614-88F6-DA53FF32D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DFA5A-2FD4-43B8-8E39-733876E91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0D3FD-6715-4C46-A7C5-8CBD1BFE2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DAFBA-C8D4-41B8-AEF7-2CB3404A6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7E878-1C0C-4E10-A28A-BBBCA794E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A4302-AA36-4CBD-9B14-FD9772C8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BFDC-4C4A-4C5B-B416-44FE44718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CAE8B-8DAD-40C9-A876-161FA32DD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73A29-D9D5-4BE0-A639-5E2FA1DA5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60BD6-E65A-416E-9B53-C0553CB8B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D9FE0-D0C9-43B6-A321-823D24526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513F0-922E-4435-B887-A6BB28EFD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D8AF-9877-4005-8F81-78C499F18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6760-149A-4825-8C8D-25CDD3DC9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053A-7BE8-45F9-8B3E-130161242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64C2-F3B1-4A1B-9B7A-F8924FAF5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FD56-0FE2-4F77-B770-C880F9AA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6B0D-E4E0-4404-B212-4C10F274E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F829-DA18-42BE-BA7E-215D72DE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굴림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DE1E0-A497-4CEE-8F91-B6C5FF0AFCDB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굴림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C1640-F667-4191-B849-FF8AED5885E2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6920" y="1267920"/>
            <a:ext cx="756144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cc"/>
                </a:solidFill>
                <a:latin typeface="굴림"/>
              </a:rPr>
              <a:t>장학재단 설립 추진</a:t>
            </a:r>
            <a:br>
              <a:rPr sz="6300"/>
            </a:b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계 획 서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2627280" y="501336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굴림"/>
              </a:rPr>
              <a:t>배재대학교 총동창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3851280" y="3573360"/>
            <a:ext cx="216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005. 8. 30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cc"/>
                </a:solidFill>
                <a:latin typeface="굴림"/>
              </a:rPr>
              <a:t>추진 일정</a:t>
            </a:r>
            <a:r>
              <a:rPr b="1" lang="en-US" sz="4400" spc="-1" strike="noStrike">
                <a:solidFill>
                  <a:srgbClr val="ffffcc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cc"/>
                </a:solidFill>
                <a:latin typeface="굴림"/>
              </a:rPr>
              <a:t>준비일정</a:t>
            </a:r>
            <a:r>
              <a:rPr b="1" lang="en-US" sz="4400" spc="-1" strike="noStrike">
                <a:solidFill>
                  <a:srgbClr val="ffffcc"/>
                </a:solidFill>
                <a:latin typeface="굴림"/>
              </a:rPr>
              <a:t>)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684360" y="1557360"/>
          <a:ext cx="8135640" cy="4803840"/>
        </p:xfrm>
        <a:graphic>
          <a:graphicData uri="http://schemas.openxmlformats.org/drawingml/2006/table">
            <a:tbl>
              <a:tblPr/>
              <a:tblGrid>
                <a:gridCol w="2735280"/>
                <a:gridCol w="2689200"/>
                <a:gridCol w="2711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      </a:t>
                      </a:r>
                      <a:r>
                        <a:rPr b="0" lang="zh-CN" sz="2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구  분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      </a:t>
                      </a:r>
                      <a:r>
                        <a:rPr b="0" lang="zh-CN" sz="2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일  정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      </a:t>
                      </a:r>
                      <a:r>
                        <a:rPr b="0" lang="zh-CN" sz="2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비  고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 </a:t>
                      </a:r>
                      <a:r>
                        <a:rPr b="0" lang="zh-CN" sz="2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총동창회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 </a:t>
                      </a:r>
                      <a:r>
                        <a:rPr b="0" lang="zh-CN" sz="2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임원회의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2005.1~7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후원의밤 개최결의 및 준비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 </a:t>
                      </a:r>
                      <a:r>
                        <a:rPr b="0" lang="zh-CN" sz="2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준비위원회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 </a:t>
                      </a:r>
                      <a:r>
                        <a:rPr b="0" lang="zh-CN" sz="2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구성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2005.7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주요임원 및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기관별 대표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1</a:t>
                      </a:r>
                      <a:r>
                        <a:rPr b="0" lang="zh-CN" sz="2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차 준비회의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2005.8.1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기본계획 수립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2</a:t>
                      </a:r>
                      <a:r>
                        <a:rPr b="0" lang="zh-CN" sz="2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차 실무회의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2005.8.26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기본계획 확정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3</a:t>
                      </a:r>
                      <a:r>
                        <a:rPr b="0" lang="zh-CN" sz="2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차 기관대표회의                                               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2005.8.3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기본계획 실행   결정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cc"/>
                </a:solidFill>
                <a:latin typeface="굴림"/>
              </a:rPr>
              <a:t>향후 실행일정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684360" y="836640"/>
          <a:ext cx="8135640" cy="5472000"/>
        </p:xfrm>
        <a:graphic>
          <a:graphicData uri="http://schemas.openxmlformats.org/drawingml/2006/table">
            <a:tbl>
              <a:tblPr/>
              <a:tblGrid>
                <a:gridCol w="2519280"/>
                <a:gridCol w="2952720"/>
                <a:gridCol w="2663640"/>
              </a:tblGrid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      </a:t>
                      </a:r>
                      <a:r>
                        <a:rPr b="0" lang="zh-CN" sz="2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구   분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       </a:t>
                      </a:r>
                      <a:r>
                        <a:rPr b="0" lang="zh-CN" sz="2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일   정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      </a:t>
                      </a:r>
                      <a:r>
                        <a:rPr b="0" lang="zh-CN" sz="2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비   고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학과별 동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임원회의 실시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1</a:t>
                      </a:r>
                      <a:r>
                        <a:rPr b="0" lang="ko-KR" sz="24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차</a:t>
                      </a:r>
                      <a:r>
                        <a:rPr b="0" lang="ko-KR" sz="24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: 2005.9.1~15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1</a:t>
                      </a:r>
                      <a:r>
                        <a:rPr b="0" lang="ko-KR" sz="24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차이후 매주 모임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학과별 후원   분위기 조성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(</a:t>
                      </a:r>
                      <a:r>
                        <a:rPr b="0" lang="zh-CN" sz="24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지원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)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조교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,</a:t>
                      </a:r>
                      <a:r>
                        <a:rPr b="0" lang="zh-CN" sz="2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교직원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,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총학생회 회의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2005.9.1~15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매주 점검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동문 연락 및 후원자 발굴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외부인사 접촉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1</a:t>
                      </a:r>
                      <a:r>
                        <a:rPr b="0" lang="ko-KR" sz="24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차</a:t>
                      </a:r>
                      <a:r>
                        <a:rPr b="0" lang="ko-KR" sz="24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: 2005.9.1~15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1</a:t>
                      </a:r>
                      <a:r>
                        <a:rPr b="0" lang="ko-KR" sz="24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차이후 수시 확인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후원협의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8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전체동문 홍보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2005.9.1~10.2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이메일 홍보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전체동문 홍보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2005.9.20~3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홍보물 발송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4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전체동문 홍보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2005.9.1~10.2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전화 및 문자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cc"/>
                </a:solidFill>
                <a:latin typeface="굴림"/>
              </a:rPr>
              <a:t>향후 실행일정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95280" y="1197000"/>
          <a:ext cx="8136000" cy="5329080"/>
        </p:xfrm>
        <a:graphic>
          <a:graphicData uri="http://schemas.openxmlformats.org/drawingml/2006/table">
            <a:tbl>
              <a:tblPr/>
              <a:tblGrid>
                <a:gridCol w="2519280"/>
                <a:gridCol w="2952720"/>
                <a:gridCol w="2664000"/>
              </a:tblGrid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구분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일정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비고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개별후원자 발굴 제출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2005.9.1~15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동문외 인사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당일행사기획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2005.9.1~15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기획사 협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4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기념품 및 기념물 기획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2005.9.1~15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기념탑 또는 기념판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148120" y="380880"/>
            <a:ext cx="460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cc"/>
                </a:solidFill>
                <a:latin typeface="굴림"/>
              </a:rPr>
              <a:t>세부 추진 계획</a:t>
            </a:r>
            <a:r>
              <a:rPr b="1" lang="en-US" sz="4400" spc="-1" strike="noStrike">
                <a:solidFill>
                  <a:srgbClr val="ffffcc"/>
                </a:solidFill>
                <a:latin typeface="굴림"/>
              </a:rPr>
              <a:t>-</a:t>
            </a:r>
            <a:r>
              <a:rPr b="1" lang="zh-CN" sz="4400" spc="-1" strike="noStrike">
                <a:solidFill>
                  <a:srgbClr val="ffffcc"/>
                </a:solidFill>
                <a:latin typeface="굴림"/>
              </a:rPr>
              <a:t>준비위원회</a:t>
            </a:r>
            <a:endParaRPr b="0" lang="en-US" sz="44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성인원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: 20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인 이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성대상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총동창회 임원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조회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각 학과별 동창회장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석사 동창회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, CEO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동문회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아교육과 동문회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평생교육과정 동문회 대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위원회 조직 및 업무 분장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동준비위원장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약간명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명예위원장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: 1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문위원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: 4 ~5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총괄추진분과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: 3~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행사기획분과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: 3~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외협력분과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: 4~5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내협력분과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: 6~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기념물건립분과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: 3~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홍보분과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: 3~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각 분과별 업무 분장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79280" y="12952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eaeaea"/>
                </a:solidFill>
                <a:latin typeface="굴림"/>
              </a:rPr>
              <a:t>총괄추진분과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법인설립허가 준비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장학재단 후원의 밤 행사 기획 총괄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분과별 세부준비사항 결정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eaeaea"/>
                </a:solidFill>
                <a:latin typeface="굴림"/>
              </a:rPr>
              <a:t>대내협력분과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동문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교직원을 대상으로 장학기금 모금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후원대상자 선정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문일정계획 수립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정서 발행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eaeaea"/>
                </a:solidFill>
                <a:latin typeface="굴림"/>
              </a:rPr>
              <a:t>대외협력분과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재단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반기업을 대상으로 장학기금 모금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후원대상자 선정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문일정계획 수립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정서 발행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eaeaea"/>
                </a:solidFill>
                <a:latin typeface="굴림"/>
              </a:rPr>
              <a:t>행사기획분과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장학재단 후원의 밤 행사 기획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진행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행사프로그램의 결정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획사 선정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행사소요예산안 확정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행사진행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eaeaea"/>
                </a:solidFill>
                <a:latin typeface="굴림"/>
              </a:rPr>
              <a:t>기념물 건립분과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정금액 납부자를 위한 동판제작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념물 형식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후원 대상자 논의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업체선정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후원대상자 방문일정 수립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eaeaea"/>
                </a:solidFill>
                <a:latin typeface="굴림"/>
              </a:rPr>
              <a:t>홍보분과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장학재단 후원의 밤 행사 홍보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행사 홍보물 결정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홍보물 발행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홈페이지와 이메일을 통한 홍보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250000" y="304920"/>
            <a:ext cx="426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cc"/>
                </a:solidFill>
                <a:latin typeface="굴림"/>
              </a:rPr>
              <a:t>후원의 밤 행사기획</a:t>
            </a:r>
            <a:r>
              <a:rPr b="1" lang="en-US" sz="4400" spc="-1" strike="noStrike">
                <a:solidFill>
                  <a:srgbClr val="ffffcc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cc"/>
                </a:solidFill>
                <a:latin typeface="굴림"/>
              </a:rPr>
              <a:t>안</a:t>
            </a:r>
            <a:r>
              <a:rPr b="1" lang="en-US" sz="4400" spc="-1" strike="noStrike">
                <a:solidFill>
                  <a:srgbClr val="ffffcc"/>
                </a:solidFill>
                <a:latin typeface="굴림"/>
              </a:rPr>
              <a:t>)</a:t>
            </a:r>
            <a:endParaRPr b="0" lang="en-US" sz="44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380880" y="1371600"/>
            <a:ext cx="6553440" cy="25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준비사항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디너파티 식사준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	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    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연팀 섭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	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    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향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명 별도 준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	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    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도우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	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    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기타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	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cc"/>
                </a:solidFill>
                <a:latin typeface="굴림"/>
              </a:rPr>
              <a:t>장학재단 설립 후원의 밤 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1280" y="1523520"/>
            <a:ext cx="8229600" cy="47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목적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총동창회의 숙원사업인 장학재단 설립을 통하여 대학을 지원하고 재학생들에 대한 장학사업을 실시하여 모교 발전과 지역사회 그리고 국가발전에 기여하기 위함인바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후원행사를 통하여 우수후원인 발굴 및 재원을 마련코자 행사를 개최코자 함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행사예정일시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: 2005. 10. 21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금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저녁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장소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오페라 웨딩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층 컨벤션 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cc"/>
                </a:solidFill>
                <a:latin typeface="굴림"/>
              </a:rPr>
              <a:t>기본 이념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593640" y="1295280"/>
            <a:ext cx="8550000" cy="882720"/>
            <a:chOff x="593640" y="1295280"/>
            <a:chExt cx="8550000" cy="882720"/>
          </a:xfrm>
        </p:grpSpPr>
        <p:pic>
          <p:nvPicPr>
            <p:cNvPr id="121" name="" descr=""/>
            <p:cNvPicPr/>
            <p:nvPr/>
          </p:nvPicPr>
          <p:blipFill>
            <a:blip r:embed="rId1"/>
            <a:stretch/>
          </p:blipFill>
          <p:spPr>
            <a:xfrm>
              <a:off x="593640" y="1295280"/>
              <a:ext cx="8550000" cy="88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817200" y="1361880"/>
              <a:ext cx="7966080" cy="627480"/>
            </a:xfrm>
            <a:prstGeom prst="rect">
              <a:avLst/>
            </a:prstGeom>
            <a:noFill/>
            <a:ln w="0">
              <a:noFill/>
            </a:ln>
            <a:effectLst>
              <a:outerShdw dist="53966" dir="2700000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500" spc="-1" strike="noStrike">
                  <a:solidFill>
                    <a:srgbClr val="eaeaea"/>
                  </a:solidFill>
                  <a:latin typeface="(환)제목라운드(중간)체"/>
                  <a:ea typeface="(환)제목라운드(중간)체"/>
                </a:rPr>
                <a:t>배재대학교 총동창회 위상 정립</a:t>
              </a:r>
              <a:endParaRPr b="0" lang="en-US" sz="3500" spc="-1" strike="noStrike">
                <a:solidFill>
                  <a:srgbClr val="eaeaea"/>
                </a:solidFill>
                <a:latin typeface="굴림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3276720" y="2438280"/>
            <a:ext cx="2592360" cy="1440000"/>
          </a:xfrm>
          <a:prstGeom prst="ellipse">
            <a:avLst/>
          </a:prstGeom>
          <a:solidFill>
            <a:srgbClr val="3399ff"/>
          </a:solidFill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zh-CN" sz="3600" spc="-1" strike="noStrike">
                <a:solidFill>
                  <a:srgbClr val="eaeaea"/>
                </a:solidFill>
                <a:latin typeface="굴림"/>
              </a:rPr>
              <a:t>장학재단 </a:t>
            </a:r>
            <a:endParaRPr b="0" lang="en-US" sz="3600" spc="-1" strike="noStrike">
              <a:solidFill>
                <a:srgbClr val="eaeaea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굴림"/>
              </a:rPr>
              <a:t>설 립</a:t>
            </a:r>
            <a:endParaRPr b="0" lang="en-US" sz="36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11280" y="4508640"/>
            <a:ext cx="2449440" cy="8157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3505320" y="4495680"/>
            <a:ext cx="2435040" cy="8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6588000" y="4508640"/>
            <a:ext cx="2266920" cy="8157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990720" y="4648320"/>
            <a:ext cx="12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"/>
                <a:ea typeface="(환)제목라운드(중간)체"/>
              </a:rPr>
              <a:t>Image</a:t>
            </a:r>
            <a:r>
              <a:rPr b="0" lang="en-US" sz="1600" spc="-1" strike="noStrike">
                <a:solidFill>
                  <a:srgbClr val="006666"/>
                </a:solidFill>
                <a:latin typeface="(환)제목라운드(중간)체"/>
                <a:ea typeface="(환)제목라운드(중간)체"/>
              </a:rPr>
              <a:t>	</a:t>
            </a:r>
            <a:endParaRPr b="0" lang="en-US" sz="16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4114800" y="464832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SimHei"/>
                <a:ea typeface="SimHei"/>
              </a:rPr>
              <a:t>Support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6659640" y="4653000"/>
            <a:ext cx="21906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(환)제목라운드(중간)체"/>
                <a:ea typeface="(환)제목라운드(중간)체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SimHei"/>
                <a:ea typeface="SimHei"/>
              </a:rPr>
              <a:t>Communication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5257800"/>
            <a:ext cx="2230560" cy="1008000"/>
          </a:xfrm>
          <a:prstGeom prst="rect">
            <a:avLst/>
          </a:prstGeom>
          <a:gradFill rotWithShape="0">
            <a:gsLst>
              <a:gs pos="0">
                <a:srgbClr val="0278fa">
                  <a:alpha val="50196"/>
                </a:srgbClr>
              </a:gs>
              <a:gs pos="100000">
                <a:srgbClr val="003773">
                  <a:alpha val="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>
            <a:off x="3657600" y="5257800"/>
            <a:ext cx="2160720" cy="1008000"/>
          </a:xfrm>
          <a:prstGeom prst="rect">
            <a:avLst/>
          </a:prstGeom>
          <a:gradFill rotWithShape="0">
            <a:gsLst>
              <a:gs pos="0">
                <a:srgbClr val="0278fa">
                  <a:alpha val="50196"/>
                </a:srgbClr>
              </a:gs>
              <a:gs pos="100000">
                <a:srgbClr val="003773">
                  <a:alpha val="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굴림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굴림"/>
              </a:rPr>
              <a:t>대학지원체계구축을 통한 </a:t>
            </a:r>
            <a:endParaRPr b="0" lang="en-US" sz="1400" spc="-1" strike="noStrike">
              <a:solidFill>
                <a:srgbClr val="eaeaea"/>
              </a:solidFill>
              <a:latin typeface="굴림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굴림"/>
              </a:rPr>
              <a:t>대학과 총동창회의</a:t>
            </a:r>
            <a:endParaRPr b="0" lang="en-US" sz="1400" spc="-1" strike="noStrike">
              <a:solidFill>
                <a:srgbClr val="eaeaea"/>
              </a:solidFill>
              <a:latin typeface="굴림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굴림"/>
              </a:rPr>
              <a:t>발전 도모</a:t>
            </a:r>
            <a:endParaRPr b="0" lang="en-US" sz="1400" spc="-1" strike="noStrike">
              <a:solidFill>
                <a:srgbClr val="eaeaea"/>
              </a:solidFill>
              <a:latin typeface="굴림"/>
            </a:endParaRPr>
          </a:p>
          <a:p>
            <a:pPr marL="228600" indent="-2286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>
            <a:off x="6705720" y="5257800"/>
            <a:ext cx="2016000" cy="1008000"/>
          </a:xfrm>
          <a:prstGeom prst="rect">
            <a:avLst/>
          </a:prstGeom>
          <a:gradFill rotWithShape="0">
            <a:gsLst>
              <a:gs pos="0">
                <a:srgbClr val="0278fa">
                  <a:alpha val="50196"/>
                </a:srgbClr>
              </a:gs>
              <a:gs pos="100000">
                <a:srgbClr val="003773">
                  <a:alpha val="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>
            <a:off x="1067760" y="5311800"/>
            <a:ext cx="1171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굴림"/>
              </a:rPr>
              <a:t>대학과 총동창회에 </a:t>
            </a:r>
            <a:endParaRPr b="0" lang="en-US" sz="1400" spc="-1" strike="noStrike">
              <a:solidFill>
                <a:srgbClr val="eaeaea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굴림"/>
              </a:rPr>
              <a:t>대한 대외적 이미지 </a:t>
            </a:r>
            <a:endParaRPr b="0" lang="en-US" sz="1400" spc="-1" strike="noStrike">
              <a:solidFill>
                <a:srgbClr val="eaeaea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굴림"/>
              </a:rPr>
              <a:t>제고</a:t>
            </a:r>
            <a:endParaRPr b="0" lang="en-US" sz="14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6781680" y="5334120"/>
            <a:ext cx="1827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굴림"/>
              </a:rPr>
              <a:t>동문 및 재학생간 </a:t>
            </a:r>
            <a:endParaRPr b="0" lang="en-US" sz="1400" spc="-1" strike="noStrike">
              <a:solidFill>
                <a:srgbClr val="eaeaea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굴림"/>
              </a:rPr>
              <a:t>커뮤니케이션의 </a:t>
            </a:r>
            <a:endParaRPr b="0" lang="en-US" sz="1400" spc="-1" strike="noStrike">
              <a:solidFill>
                <a:srgbClr val="eaeaea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굴림"/>
              </a:rPr>
              <a:t>장으로 활용</a:t>
            </a:r>
            <a:endParaRPr b="0" lang="en-US" sz="14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195280" y="3645720"/>
            <a:ext cx="1439640" cy="879480"/>
          </a:xfrm>
          <a:prstGeom prst="line">
            <a:avLst/>
          </a:prstGeom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0" y="3885480"/>
            <a:ext cx="0" cy="609480"/>
          </a:xfrm>
          <a:prstGeom prst="line">
            <a:avLst/>
          </a:prstGeom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5508000" y="3644280"/>
            <a:ext cx="1501560" cy="850680"/>
          </a:xfrm>
          <a:prstGeom prst="line">
            <a:avLst/>
          </a:prstGeom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cc"/>
                </a:solidFill>
                <a:latin typeface="굴림"/>
              </a:rPr>
              <a:t>장학재단 설립 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굴림"/>
              </a:rPr>
              <a:t>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eaeaea"/>
                </a:solidFill>
                <a:latin typeface="굴림"/>
              </a:rPr>
              <a:t>장학재단 설립 기본 금액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3</a:t>
            </a:r>
            <a:r>
              <a:rPr b="0" lang="zh-CN" sz="2800" spc="-1" strike="noStrike">
                <a:solidFill>
                  <a:srgbClr val="eaeaea"/>
                </a:solidFill>
                <a:latin typeface="굴림"/>
              </a:rPr>
              <a:t>억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굴림"/>
              </a:rPr>
              <a:t>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eaeaea"/>
                </a:solidFill>
                <a:latin typeface="굴림"/>
              </a:rPr>
              <a:t>현 적립금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2</a:t>
            </a:r>
            <a:r>
              <a:rPr b="0" lang="zh-CN" sz="2800" spc="-1" strike="noStrike">
                <a:solidFill>
                  <a:srgbClr val="eaeaea"/>
                </a:solidFill>
                <a:latin typeface="굴림"/>
              </a:rPr>
              <a:t>억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eaeaea"/>
                </a:solidFill>
                <a:latin typeface="굴림"/>
              </a:rPr>
              <a:t>천만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굴림"/>
              </a:rPr>
              <a:t>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eaeaea"/>
                </a:solidFill>
                <a:latin typeface="굴림"/>
              </a:rPr>
              <a:t>기금 장기목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10</a:t>
            </a:r>
            <a:r>
              <a:rPr b="0" lang="zh-CN" sz="2800" spc="-1" strike="noStrike">
                <a:solidFill>
                  <a:srgbClr val="eaeaea"/>
                </a:solidFill>
                <a:latin typeface="굴림"/>
              </a:rPr>
              <a:t>억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굴림"/>
              </a:rPr>
              <a:t>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2005</a:t>
            </a:r>
            <a:r>
              <a:rPr b="0" lang="zh-CN" sz="2800" spc="-1" strike="noStrike">
                <a:solidFill>
                  <a:srgbClr val="eaeaea"/>
                </a:solidFill>
                <a:latin typeface="굴림"/>
              </a:rPr>
              <a:t>후원금 모금 목표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eaeaea"/>
                </a:solidFill>
                <a:latin typeface="굴림"/>
              </a:rPr>
              <a:t>억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zh-CN" sz="2800" spc="-1" strike="noStrike">
                <a:solidFill>
                  <a:srgbClr val="eaeaea"/>
                </a:solidFill>
                <a:latin typeface="굴림"/>
              </a:rPr>
              <a:t>천만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굴림"/>
              </a:rPr>
              <a:t>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eaeaea"/>
                </a:solidFill>
                <a:latin typeface="굴림"/>
              </a:rPr>
              <a:t>참여 대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eaeaea"/>
                </a:solidFill>
                <a:latin typeface="굴림"/>
              </a:rPr>
              <a:t>동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eaeaea"/>
                </a:solidFill>
                <a:latin typeface="굴림"/>
              </a:rPr>
              <a:t>교직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eaeaea"/>
                </a:solidFill>
                <a:latin typeface="굴림"/>
              </a:rPr>
              <a:t>외부 기업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eaeaea"/>
                </a:solidFill>
                <a:latin typeface="굴림"/>
              </a:rPr>
              <a:t>일반시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굴림"/>
              </a:rPr>
              <a:t>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eaeaea"/>
                </a:solidFill>
                <a:latin typeface="굴림"/>
              </a:rPr>
              <a:t>재단이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eaeaea"/>
                </a:solidFill>
                <a:latin typeface="굴림"/>
              </a:rPr>
              <a:t>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eaeaea"/>
                </a:solidFill>
                <a:latin typeface="굴림"/>
              </a:rPr>
              <a:t>이사납입금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zh-CN" sz="2800" spc="-1" strike="noStrike">
                <a:solidFill>
                  <a:srgbClr val="eaeaea"/>
                </a:solidFill>
                <a:latin typeface="굴림"/>
              </a:rPr>
              <a:t>백만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굴림"/>
              </a:rPr>
              <a:t>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eaeaea"/>
                </a:solidFill>
                <a:latin typeface="굴림"/>
              </a:rPr>
              <a:t>일반후원구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eaeaea"/>
                </a:solidFill>
                <a:latin typeface="굴림"/>
              </a:rPr>
              <a:t>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eaeaea"/>
                </a:solidFill>
                <a:latin typeface="굴림"/>
              </a:rPr>
              <a:t>만원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굴림"/>
              </a:rPr>
              <a:t>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eaeaea"/>
                </a:solidFill>
                <a:latin typeface="굴림"/>
              </a:rPr>
              <a:t>향후 장학금 지급 및 기금 조성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     </a:t>
            </a:r>
            <a:r>
              <a:rPr b="0" lang="zh-CN" sz="2800" spc="-1" strike="noStrike">
                <a:solidFill>
                  <a:srgbClr val="eaeaea"/>
                </a:solidFill>
                <a:latin typeface="굴림"/>
              </a:rPr>
              <a:t>지원 확대 및 지속적인 모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eaeaea"/>
                </a:solidFill>
                <a:latin typeface="굴림"/>
              </a:rPr>
              <a:t>총동창회 지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장학금 지급 실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539640" y="1371600"/>
          <a:ext cx="8070840" cy="5138640"/>
        </p:xfrm>
        <a:graphic>
          <a:graphicData uri="http://schemas.openxmlformats.org/drawingml/2006/table">
            <a:tbl>
              <a:tblPr/>
              <a:tblGrid>
                <a:gridCol w="2587680"/>
                <a:gridCol w="2594160"/>
                <a:gridCol w="2889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년도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금액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대상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74. 10. 2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30,00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2</a:t>
                      </a:r>
                      <a:r>
                        <a:rPr b="0" lang="zh-CN" sz="20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학기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75. 3. 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50,00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학기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75. 9. 2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50,00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2</a:t>
                      </a:r>
                      <a:r>
                        <a:rPr b="0" lang="zh-CN" sz="20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학기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76. 3. 2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55,00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학기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77. 2. 2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55,00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2</a:t>
                      </a:r>
                      <a:r>
                        <a:rPr b="0" lang="zh-CN" sz="20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학기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77. 9. 1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96,50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2</a:t>
                      </a:r>
                      <a:r>
                        <a:rPr b="0" lang="zh-CN" sz="20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학기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78. 9. 2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150,00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2</a:t>
                      </a:r>
                      <a:r>
                        <a:rPr b="0" lang="zh-CN" sz="20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학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79. 4. 3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150,00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학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79. 11 .29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150,00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2</a:t>
                      </a:r>
                      <a:r>
                        <a:rPr b="0" lang="zh-CN" sz="20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학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80. 6. 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375,00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학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80. 9. 1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375,00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2</a:t>
                      </a:r>
                      <a:r>
                        <a:rPr b="0" lang="zh-CN" sz="20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학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83. 3. 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322,00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학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324000" y="620640"/>
          <a:ext cx="8229600" cy="54291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84. 3. 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325,00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학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85. 2. 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500,00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학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85. 8. 3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600,00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2</a:t>
                      </a:r>
                      <a:r>
                        <a:rPr b="0" lang="zh-CN" sz="20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학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86. 3. 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600,00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학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86. 9. 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600,00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2</a:t>
                      </a:r>
                      <a:r>
                        <a:rPr b="0" lang="zh-CN" sz="20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학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87. 3. 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1,050,00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학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87. 9. 1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1,487,00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2</a:t>
                      </a:r>
                      <a:r>
                        <a:rPr b="0" lang="zh-CN" sz="20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학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88. 3. 26   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1,597,00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재학생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88. 9. 1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1,986,50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재학생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89. 3. 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1,655,00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재학생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89. 9.1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1,720,00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재학생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90. 3. 2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2,110,00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재학생 </a:t>
                      </a: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4</a:t>
                      </a:r>
                      <a:r>
                        <a:rPr b="0" lang="zh-CN" sz="20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명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457200" y="457200"/>
          <a:ext cx="8381880" cy="5691240"/>
        </p:xfrm>
        <a:graphic>
          <a:graphicData uri="http://schemas.openxmlformats.org/drawingml/2006/table">
            <a:tbl>
              <a:tblPr/>
              <a:tblGrid>
                <a:gridCol w="2793960"/>
                <a:gridCol w="2793960"/>
                <a:gridCol w="2793960"/>
              </a:tblGrid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90. 9. 5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2,209,50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재학생</a:t>
                      </a: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(4</a:t>
                      </a:r>
                      <a:r>
                        <a:rPr b="0" lang="zh-CN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명</a:t>
                      </a: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91. 3. 6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3,500,00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재학생</a:t>
                      </a: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(7</a:t>
                      </a:r>
                      <a:r>
                        <a:rPr b="0" lang="zh-CN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명</a:t>
                      </a: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91. 9. 11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3,500,00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재학생</a:t>
                      </a: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(7</a:t>
                      </a:r>
                      <a:r>
                        <a:rPr b="0" lang="zh-CN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명</a:t>
                      </a: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94. 5. 17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3,000.00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재학생</a:t>
                      </a: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(6</a:t>
                      </a:r>
                      <a:r>
                        <a:rPr b="0" lang="zh-CN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명</a:t>
                      </a: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94. 9. 28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3,000.00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재학생</a:t>
                      </a: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(6</a:t>
                      </a:r>
                      <a:r>
                        <a:rPr b="0" lang="zh-CN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명</a:t>
                      </a: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95. 4. 26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4,000.00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재학생</a:t>
                      </a: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(8</a:t>
                      </a:r>
                      <a:r>
                        <a:rPr b="0" lang="zh-CN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명</a:t>
                      </a: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95. 9. 26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4,000.00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재학생</a:t>
                      </a: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(8</a:t>
                      </a:r>
                      <a:r>
                        <a:rPr b="0" lang="zh-CN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명</a:t>
                      </a: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96. 5. 29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4,000.00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재학생</a:t>
                      </a: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(8</a:t>
                      </a:r>
                      <a:r>
                        <a:rPr b="0" lang="zh-CN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명</a:t>
                      </a: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96. 10. 4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4,000.00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재학생</a:t>
                      </a: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(8</a:t>
                      </a:r>
                      <a:r>
                        <a:rPr b="0" lang="zh-CN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명</a:t>
                      </a: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97. 6. 1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4,000.00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재학생</a:t>
                      </a: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(8</a:t>
                      </a:r>
                      <a:r>
                        <a:rPr b="0" lang="zh-CN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명</a:t>
                      </a: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7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97. 10. 14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4,000.00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재학생</a:t>
                      </a: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(8</a:t>
                      </a:r>
                      <a:r>
                        <a:rPr b="0" lang="zh-CN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명</a:t>
                      </a: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98. 4. 16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4,000.00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재학생</a:t>
                      </a: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(8</a:t>
                      </a:r>
                      <a:r>
                        <a:rPr b="0" lang="zh-CN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명</a:t>
                      </a: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228600" y="457200"/>
          <a:ext cx="8534520" cy="4016520"/>
        </p:xfrm>
        <a:graphic>
          <a:graphicData uri="http://schemas.openxmlformats.org/drawingml/2006/table">
            <a:tbl>
              <a:tblPr/>
              <a:tblGrid>
                <a:gridCol w="2844720"/>
                <a:gridCol w="2844720"/>
                <a:gridCol w="2845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98. 12. 18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4,000.00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재학생</a:t>
                      </a: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(8</a:t>
                      </a:r>
                      <a:r>
                        <a:rPr b="0" lang="zh-CN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명</a:t>
                      </a: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00. 3. 21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4,000,00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재학생</a:t>
                      </a: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(8</a:t>
                      </a:r>
                      <a:r>
                        <a:rPr b="0" lang="zh-CN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명</a:t>
                      </a: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00. 9. 14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4,000,00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재학생</a:t>
                      </a: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(8</a:t>
                      </a:r>
                      <a:r>
                        <a:rPr b="0" lang="zh-CN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명</a:t>
                      </a: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01. 4. 12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4,000,00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재학생</a:t>
                      </a: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(8</a:t>
                      </a:r>
                      <a:r>
                        <a:rPr b="0" lang="zh-CN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명</a:t>
                      </a: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01. 10. 01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4,000,00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재학생</a:t>
                      </a: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(8</a:t>
                      </a:r>
                      <a:r>
                        <a:rPr b="0" lang="zh-CN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명</a:t>
                      </a: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02. 4. 2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4,000,00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재학생</a:t>
                      </a: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(8</a:t>
                      </a:r>
                      <a:r>
                        <a:rPr b="0" lang="zh-CN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명</a:t>
                      </a: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02. 9. 15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4,000,00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재학생</a:t>
                      </a: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(8</a:t>
                      </a:r>
                      <a:r>
                        <a:rPr b="0" lang="zh-CN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명</a:t>
                      </a: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03. 3. 12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4,000,00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재학생</a:t>
                      </a: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(8</a:t>
                      </a:r>
                      <a:r>
                        <a:rPr b="0" lang="zh-CN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명</a:t>
                      </a: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03. 9.12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5,000,00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재학생</a:t>
                      </a: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(10</a:t>
                      </a:r>
                      <a:r>
                        <a:rPr b="0" lang="zh-CN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명</a:t>
                      </a: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04. 5. 21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6,000,00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재학생</a:t>
                      </a: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(12</a:t>
                      </a:r>
                      <a:r>
                        <a:rPr b="0" lang="zh-CN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명</a:t>
                      </a: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05. 5. 11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5,000,00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재학생</a:t>
                      </a: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(10</a:t>
                      </a:r>
                      <a:r>
                        <a:rPr b="0" lang="zh-CN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명</a:t>
                      </a: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후원금 모금 세부 목표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539640" y="1268280"/>
          <a:ext cx="8353440" cy="5405400"/>
        </p:xfrm>
        <a:graphic>
          <a:graphicData uri="http://schemas.openxmlformats.org/drawingml/2006/table">
            <a:tbl>
              <a:tblPr/>
              <a:tblGrid>
                <a:gridCol w="2764080"/>
                <a:gridCol w="2782800"/>
                <a:gridCol w="2806560"/>
              </a:tblGrid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      </a:t>
                      </a:r>
                      <a:r>
                        <a:rPr b="0" lang="zh-CN" sz="2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구   분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  </a:t>
                      </a:r>
                      <a:r>
                        <a:rPr b="0" lang="zh-CN" sz="2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목표 금액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(</a:t>
                      </a:r>
                      <a:r>
                        <a:rPr b="0" lang="zh-CN" sz="2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원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)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     </a:t>
                      </a:r>
                      <a:r>
                        <a:rPr b="0" lang="zh-CN" sz="2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비   고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 </a:t>
                      </a:r>
                      <a:r>
                        <a:rPr b="0" lang="zh-CN" sz="2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학과별 동문회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50,000,00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  </a:t>
                      </a:r>
                      <a:r>
                        <a:rPr b="0" lang="zh-CN" sz="2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학과별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300-500</a:t>
                      </a:r>
                      <a:r>
                        <a:rPr b="0" lang="zh-CN" sz="2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만원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 </a:t>
                      </a:r>
                      <a:r>
                        <a:rPr b="0" lang="zh-CN" sz="2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관계기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20,000,00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2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상조회 및 대학                 관련 기관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5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 </a:t>
                      </a:r>
                      <a:r>
                        <a:rPr b="0" lang="zh-CN" sz="2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외부기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30,000,00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 </a:t>
                      </a:r>
                      <a:r>
                        <a:rPr b="0" lang="zh-CN" sz="2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지역업체 등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6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 </a:t>
                      </a:r>
                      <a:r>
                        <a:rPr b="0" lang="zh-CN" sz="2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개별후원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20,000,00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 </a:t>
                      </a:r>
                      <a:r>
                        <a:rPr b="0" lang="zh-CN" sz="2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일반 후원 등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 </a:t>
                      </a:r>
                      <a:r>
                        <a:rPr b="0" lang="zh-CN" sz="2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이사 가입비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20,000,00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 </a:t>
                      </a:r>
                      <a:r>
                        <a:rPr b="0" lang="zh-CN" sz="2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재단이사 대상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6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 </a:t>
                      </a:r>
                      <a:r>
                        <a:rPr b="0" lang="zh-CN" sz="2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임원 후원금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10,000,00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 </a:t>
                      </a:r>
                      <a:r>
                        <a:rPr b="0" lang="zh-CN" sz="2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총동창회 이사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    </a:t>
                      </a:r>
                      <a:r>
                        <a:rPr b="0" lang="zh-CN" sz="2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합     계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굴림"/>
                        </a:rPr>
                        <a:t>150,000,00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3T06:31:53Z</dcterms:created>
  <dc:creator>SEC</dc:creator>
  <dc:description/>
  <dc:language>en-US</dc:language>
  <cp:lastModifiedBy>OEM</cp:lastModifiedBy>
  <dcterms:modified xsi:type="dcterms:W3CDTF">2005-10-19T02:09:28Z</dcterms:modified>
  <cp:revision>84</cp:revision>
  <dc:subject/>
  <dc:title>장학재단 설립 후원의 밤 기 획 서</dc:title>
</cp:coreProperties>
</file>