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4"/>
          <p:cNvSpPr/>
          <p:nvPr/>
        </p:nvSpPr>
        <p:spPr>
          <a:xfrm>
            <a:off x="4214880" y="6659640"/>
            <a:ext cx="146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1864-FCBA-4971-A453-E91D5C94A52C}" type="slidenum">
              <a:rPr b="0" lang="en-US" sz="800" spc="-1" strike="noStrike">
                <a:solidFill>
                  <a:srgbClr val="000000"/>
                </a:solidFill>
                <a:latin typeface="Times New Roman"/>
                <a:ea typeface="HY견명조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" name="Picture 231" descr="A-03-03"/>
          <p:cNvPicPr/>
          <p:nvPr/>
        </p:nvPicPr>
        <p:blipFill>
          <a:blip r:embed="rId3"/>
          <a:srcRect l="31908" t="77029" r="32388" b="15888"/>
          <a:stretch/>
        </p:blipFill>
        <p:spPr>
          <a:xfrm>
            <a:off x="344520" y="317520"/>
            <a:ext cx="1073160" cy="303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32" descr="A-11-01"/>
          <p:cNvPicPr/>
          <p:nvPr/>
        </p:nvPicPr>
        <p:blipFill>
          <a:blip r:embed="rId4"/>
          <a:srcRect l="17611" t="31292" r="14279" b="32375"/>
          <a:stretch/>
        </p:blipFill>
        <p:spPr>
          <a:xfrm>
            <a:off x="9126360" y="115920"/>
            <a:ext cx="514440" cy="38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33" descr="A-11-05"/>
          <p:cNvPicPr/>
          <p:nvPr/>
        </p:nvPicPr>
        <p:blipFill>
          <a:blip r:embed="rId5"/>
          <a:srcRect l="18124" t="38034" r="13333" b="42792"/>
          <a:stretch/>
        </p:blipFill>
        <p:spPr>
          <a:xfrm>
            <a:off x="9053640" y="6593040"/>
            <a:ext cx="618840" cy="24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41"/>
          <p:cNvSpPr/>
          <p:nvPr/>
        </p:nvSpPr>
        <p:spPr>
          <a:xfrm>
            <a:off x="5532480" y="5356080"/>
            <a:ext cx="34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네트워크 라이선스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체크 후 다음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" name="그룹 15"/>
          <p:cNvGrpSpPr/>
          <p:nvPr/>
        </p:nvGrpSpPr>
        <p:grpSpPr>
          <a:xfrm>
            <a:off x="5256360" y="1871640"/>
            <a:ext cx="3765240" cy="2768760"/>
            <a:chOff x="5256360" y="1871640"/>
            <a:chExt cx="3765240" cy="2768760"/>
          </a:xfrm>
        </p:grpSpPr>
        <p:grpSp>
          <p:nvGrpSpPr>
            <p:cNvPr id="42" name="그룹 16"/>
            <p:cNvGrpSpPr/>
            <p:nvPr/>
          </p:nvGrpSpPr>
          <p:grpSpPr>
            <a:xfrm>
              <a:off x="5256360" y="1871640"/>
              <a:ext cx="3765240" cy="2768760"/>
              <a:chOff x="5256360" y="1871640"/>
              <a:chExt cx="3765240" cy="2768760"/>
            </a:xfrm>
          </p:grpSpPr>
          <p:pic>
            <p:nvPicPr>
              <p:cNvPr id="43" name="그림 18" descr="PASW Statistics 18 - InstallShield Wizard"/>
              <p:cNvPicPr/>
              <p:nvPr/>
            </p:nvPicPr>
            <p:blipFill>
              <a:blip r:embed="rId1"/>
              <a:stretch/>
            </p:blipFill>
            <p:spPr>
              <a:xfrm>
                <a:off x="5256360" y="1871640"/>
                <a:ext cx="3765240" cy="276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" name="직사각형 21"/>
              <p:cNvSpPr/>
              <p:nvPr/>
            </p:nvSpPr>
            <p:spPr>
              <a:xfrm>
                <a:off x="7591320" y="4395960"/>
                <a:ext cx="620640" cy="16344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5" name="직사각형 17"/>
            <p:cNvSpPr/>
            <p:nvPr/>
          </p:nvSpPr>
          <p:spPr>
            <a:xfrm>
              <a:off x="6743520" y="3584520"/>
              <a:ext cx="2033280" cy="328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Rectangle 123"/>
          <p:cNvSpPr/>
          <p:nvPr/>
        </p:nvSpPr>
        <p:spPr>
          <a:xfrm>
            <a:off x="596880" y="1449360"/>
            <a:ext cx="8712360" cy="5040360"/>
          </a:xfrm>
          <a:prstGeom prst="rect">
            <a:avLst/>
          </a:prstGeom>
          <a:noFill/>
          <a:ln w="19080">
            <a:solidFill>
              <a:srgbClr val="7f99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226"/>
          <p:cNvSpPr/>
          <p:nvPr/>
        </p:nvSpPr>
        <p:spPr>
          <a:xfrm>
            <a:off x="584280" y="762120"/>
            <a:ext cx="873756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-머리정체L"/>
                <a:ea typeface="-머리정체L"/>
              </a:rPr>
              <a:t>1. SPSS </a:t>
            </a:r>
            <a:r>
              <a:rPr b="0" lang="ko-KR" sz="1500" spc="-1" strike="noStrike">
                <a:solidFill>
                  <a:srgbClr val="5f5f5f"/>
                </a:solidFill>
                <a:latin typeface="-머리정체L"/>
                <a:ea typeface="-머리정체L"/>
              </a:rPr>
              <a:t>네트워크 버전 설치 매뉴얼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Group 336"/>
          <p:cNvGrpSpPr/>
          <p:nvPr/>
        </p:nvGrpSpPr>
        <p:grpSpPr>
          <a:xfrm>
            <a:off x="584280" y="1241280"/>
            <a:ext cx="8734320" cy="254160"/>
            <a:chOff x="584280" y="1241280"/>
            <a:chExt cx="8734320" cy="254160"/>
          </a:xfrm>
        </p:grpSpPr>
        <p:pic>
          <p:nvPicPr>
            <p:cNvPr id="49" name="Picture 233" descr="bar02 copy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584280" y="1241280"/>
              <a:ext cx="8734320" cy="2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234"/>
            <p:cNvSpPr/>
            <p:nvPr/>
          </p:nvSpPr>
          <p:spPr>
            <a:xfrm>
              <a:off x="900360" y="1272600"/>
              <a:ext cx="556920" cy="1677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-머리정체L"/>
                  <a:ea typeface="-머리정체L"/>
                </a:rPr>
                <a:t>SPSS </a:t>
              </a:r>
              <a:r>
                <a:rPr b="0" lang="ko-KR" sz="1100" spc="-1" strike="noStrike">
                  <a:solidFill>
                    <a:srgbClr val="003366"/>
                  </a:solidFill>
                  <a:latin typeface="-머리정체L"/>
                  <a:ea typeface="-머리정체L"/>
                </a:rPr>
                <a:t>설치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1" name="Picture 335" descr="A-08-01"/>
            <p:cNvPicPr/>
            <p:nvPr/>
          </p:nvPicPr>
          <p:blipFill>
            <a:blip r:embed="rId3"/>
            <a:srcRect l="61441" t="31628" r="23813" b="59710"/>
            <a:stretch/>
          </p:blipFill>
          <p:spPr>
            <a:xfrm>
              <a:off x="604800" y="1254240"/>
              <a:ext cx="223920" cy="18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Text Box 341"/>
          <p:cNvSpPr/>
          <p:nvPr/>
        </p:nvSpPr>
        <p:spPr>
          <a:xfrm>
            <a:off x="1008000" y="5356080"/>
            <a:ext cx="34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DVD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파일을 열어서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Setup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3" name="그룹 1"/>
          <p:cNvGrpSpPr/>
          <p:nvPr/>
        </p:nvGrpSpPr>
        <p:grpSpPr>
          <a:xfrm>
            <a:off x="1008000" y="1871640"/>
            <a:ext cx="3760920" cy="2747880"/>
            <a:chOff x="1008000" y="1871640"/>
            <a:chExt cx="3760920" cy="2747880"/>
          </a:xfrm>
        </p:grpSpPr>
        <p:pic>
          <p:nvPicPr>
            <p:cNvPr id="54" name="그림 2" descr="win32"/>
            <p:cNvPicPr/>
            <p:nvPr/>
          </p:nvPicPr>
          <p:blipFill>
            <a:blip r:embed="rId4"/>
            <a:stretch/>
          </p:blipFill>
          <p:spPr>
            <a:xfrm>
              <a:off x="1008000" y="1871640"/>
              <a:ext cx="37609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직사각형 19"/>
            <p:cNvSpPr/>
            <p:nvPr/>
          </p:nvSpPr>
          <p:spPr>
            <a:xfrm>
              <a:off x="1118880" y="3357000"/>
              <a:ext cx="3456360" cy="16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23"/>
          <p:cNvSpPr/>
          <p:nvPr/>
        </p:nvSpPr>
        <p:spPr>
          <a:xfrm>
            <a:off x="596880" y="1449360"/>
            <a:ext cx="8712360" cy="5040360"/>
          </a:xfrm>
          <a:prstGeom prst="rect">
            <a:avLst/>
          </a:prstGeom>
          <a:noFill/>
          <a:ln w="19080">
            <a:solidFill>
              <a:srgbClr val="7f99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84280" y="762120"/>
            <a:ext cx="873756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-머리정체L"/>
                <a:ea typeface="-머리정체L"/>
              </a:rPr>
              <a:t>1. SPSS </a:t>
            </a:r>
            <a:r>
              <a:rPr b="0" lang="ko-KR" sz="1500" spc="-1" strike="noStrike">
                <a:solidFill>
                  <a:srgbClr val="5f5f5f"/>
                </a:solidFill>
                <a:latin typeface="-머리정체L"/>
                <a:ea typeface="-머리정체L"/>
              </a:rPr>
              <a:t>네트워크 버전 설치 매뉴얼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8" name="Group 4"/>
          <p:cNvGrpSpPr/>
          <p:nvPr/>
        </p:nvGrpSpPr>
        <p:grpSpPr>
          <a:xfrm>
            <a:off x="584280" y="1241280"/>
            <a:ext cx="8734320" cy="254160"/>
            <a:chOff x="584280" y="1241280"/>
            <a:chExt cx="8734320" cy="254160"/>
          </a:xfrm>
        </p:grpSpPr>
        <p:pic>
          <p:nvPicPr>
            <p:cNvPr id="59" name="Picture 5" descr="bar02 copy"/>
            <p:cNvPicPr/>
            <p:nvPr/>
          </p:nvPicPr>
          <p:blipFill>
            <a:blip r:embed="rId1">
              <a:lum bright="6000"/>
            </a:blip>
            <a:stretch/>
          </p:blipFill>
          <p:spPr>
            <a:xfrm>
              <a:off x="584280" y="1241280"/>
              <a:ext cx="8734320" cy="2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Rectangle 6"/>
            <p:cNvSpPr/>
            <p:nvPr/>
          </p:nvSpPr>
          <p:spPr>
            <a:xfrm>
              <a:off x="900360" y="1272600"/>
              <a:ext cx="556920" cy="1677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-머리정체L"/>
                  <a:ea typeface="-머리정체L"/>
                </a:rPr>
                <a:t>SPSS </a:t>
              </a:r>
              <a:r>
                <a:rPr b="0" lang="ko-KR" sz="1100" spc="-1" strike="noStrike">
                  <a:solidFill>
                    <a:srgbClr val="003366"/>
                  </a:solidFill>
                  <a:latin typeface="-머리정체L"/>
                  <a:ea typeface="-머리정체L"/>
                </a:rPr>
                <a:t>설치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61" name="Picture 7" descr="A-08-01"/>
            <p:cNvPicPr/>
            <p:nvPr/>
          </p:nvPicPr>
          <p:blipFill>
            <a:blip r:embed="rId2"/>
            <a:srcRect l="61441" t="31628" r="23813" b="59710"/>
            <a:stretch/>
          </p:blipFill>
          <p:spPr>
            <a:xfrm>
              <a:off x="604800" y="1254240"/>
              <a:ext cx="223920" cy="18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 Box 341"/>
          <p:cNvSpPr/>
          <p:nvPr/>
        </p:nvSpPr>
        <p:spPr>
          <a:xfrm>
            <a:off x="1374840" y="5372280"/>
            <a:ext cx="34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다음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3" name="그룹 20"/>
          <p:cNvGrpSpPr/>
          <p:nvPr/>
        </p:nvGrpSpPr>
        <p:grpSpPr>
          <a:xfrm>
            <a:off x="1028880" y="1881360"/>
            <a:ext cx="3765240" cy="2768400"/>
            <a:chOff x="1028880" y="1881360"/>
            <a:chExt cx="3765240" cy="2768400"/>
          </a:xfrm>
        </p:grpSpPr>
        <p:pic>
          <p:nvPicPr>
            <p:cNvPr id="64" name="그림 21" descr="PASW Statistics 18 - InstallShield Wizard"/>
            <p:cNvPicPr/>
            <p:nvPr/>
          </p:nvPicPr>
          <p:blipFill>
            <a:blip r:embed="rId3"/>
            <a:stretch/>
          </p:blipFill>
          <p:spPr>
            <a:xfrm>
              <a:off x="1028880" y="1881360"/>
              <a:ext cx="3765240" cy="27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직사각형 22"/>
            <p:cNvSpPr/>
            <p:nvPr/>
          </p:nvSpPr>
          <p:spPr>
            <a:xfrm>
              <a:off x="3363840" y="4405320"/>
              <a:ext cx="620640" cy="16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6" name="Text Box 341"/>
          <p:cNvSpPr/>
          <p:nvPr/>
        </p:nvSpPr>
        <p:spPr>
          <a:xfrm>
            <a:off x="5256360" y="5356080"/>
            <a:ext cx="340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P Address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를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203.250.129.91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설정 후 다음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7" name="그룹 12"/>
          <p:cNvGrpSpPr/>
          <p:nvPr/>
        </p:nvGrpSpPr>
        <p:grpSpPr>
          <a:xfrm>
            <a:off x="5256360" y="1855800"/>
            <a:ext cx="3765240" cy="2768760"/>
            <a:chOff x="5256360" y="1855800"/>
            <a:chExt cx="3765240" cy="2768760"/>
          </a:xfrm>
        </p:grpSpPr>
        <p:grpSp>
          <p:nvGrpSpPr>
            <p:cNvPr id="68" name="그룹 13"/>
            <p:cNvGrpSpPr/>
            <p:nvPr/>
          </p:nvGrpSpPr>
          <p:grpSpPr>
            <a:xfrm>
              <a:off x="5256360" y="1855800"/>
              <a:ext cx="3765240" cy="2768760"/>
              <a:chOff x="5256360" y="1855800"/>
              <a:chExt cx="3765240" cy="2768760"/>
            </a:xfrm>
          </p:grpSpPr>
          <p:pic>
            <p:nvPicPr>
              <p:cNvPr id="69" name="그림 15" descr="PASW Statistics 18 InstallShield Wizard"/>
              <p:cNvPicPr/>
              <p:nvPr/>
            </p:nvPicPr>
            <p:blipFill>
              <a:blip r:embed="rId4"/>
              <a:stretch/>
            </p:blipFill>
            <p:spPr>
              <a:xfrm>
                <a:off x="5256360" y="1855800"/>
                <a:ext cx="3765240" cy="276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직사각형 25"/>
              <p:cNvSpPr/>
              <p:nvPr/>
            </p:nvSpPr>
            <p:spPr>
              <a:xfrm>
                <a:off x="7591320" y="4380120"/>
                <a:ext cx="622080" cy="16344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71" name="직사각형 23"/>
            <p:cNvSpPr/>
            <p:nvPr/>
          </p:nvSpPr>
          <p:spPr>
            <a:xfrm>
              <a:off x="5634000" y="3322800"/>
              <a:ext cx="2687400" cy="16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23"/>
          <p:cNvSpPr/>
          <p:nvPr/>
        </p:nvSpPr>
        <p:spPr>
          <a:xfrm>
            <a:off x="596880" y="1449360"/>
            <a:ext cx="8712360" cy="5040360"/>
          </a:xfrm>
          <a:prstGeom prst="rect">
            <a:avLst/>
          </a:prstGeom>
          <a:noFill/>
          <a:ln w="19080">
            <a:solidFill>
              <a:srgbClr val="7f99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84280" y="762120"/>
            <a:ext cx="873756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-머리정체L"/>
                <a:ea typeface="-머리정체L"/>
              </a:rPr>
              <a:t>1. SPSS </a:t>
            </a:r>
            <a:r>
              <a:rPr b="0" lang="ko-KR" sz="1500" spc="-1" strike="noStrike">
                <a:solidFill>
                  <a:srgbClr val="5f5f5f"/>
                </a:solidFill>
                <a:latin typeface="-머리정체L"/>
                <a:ea typeface="-머리정체L"/>
              </a:rPr>
              <a:t>네트워크 버전 설치 매뉴얼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584280" y="1241280"/>
            <a:ext cx="8734320" cy="254160"/>
            <a:chOff x="584280" y="1241280"/>
            <a:chExt cx="8734320" cy="254160"/>
          </a:xfrm>
        </p:grpSpPr>
        <p:pic>
          <p:nvPicPr>
            <p:cNvPr id="75" name="Picture 5" descr="bar02 copy"/>
            <p:cNvPicPr/>
            <p:nvPr/>
          </p:nvPicPr>
          <p:blipFill>
            <a:blip r:embed="rId1">
              <a:lum bright="6000"/>
            </a:blip>
            <a:stretch/>
          </p:blipFill>
          <p:spPr>
            <a:xfrm>
              <a:off x="584280" y="1241280"/>
              <a:ext cx="8734320" cy="2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Rectangle 6"/>
            <p:cNvSpPr/>
            <p:nvPr/>
          </p:nvSpPr>
          <p:spPr>
            <a:xfrm>
              <a:off x="900360" y="1272600"/>
              <a:ext cx="556920" cy="1677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-머리정체L"/>
                  <a:ea typeface="-머리정체L"/>
                </a:rPr>
                <a:t>SPSS </a:t>
              </a:r>
              <a:r>
                <a:rPr b="0" lang="ko-KR" sz="1100" spc="-1" strike="noStrike">
                  <a:solidFill>
                    <a:srgbClr val="003366"/>
                  </a:solidFill>
                  <a:latin typeface="-머리정체L"/>
                  <a:ea typeface="-머리정체L"/>
                </a:rPr>
                <a:t>설치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77" name="Picture 7" descr="A-08-01"/>
            <p:cNvPicPr/>
            <p:nvPr/>
          </p:nvPicPr>
          <p:blipFill>
            <a:blip r:embed="rId2"/>
            <a:srcRect l="61441" t="31628" r="23813" b="59710"/>
            <a:stretch/>
          </p:blipFill>
          <p:spPr>
            <a:xfrm>
              <a:off x="604800" y="1254240"/>
              <a:ext cx="223920" cy="18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그룹 17"/>
          <p:cNvGrpSpPr/>
          <p:nvPr/>
        </p:nvGrpSpPr>
        <p:grpSpPr>
          <a:xfrm>
            <a:off x="992160" y="1855800"/>
            <a:ext cx="3765600" cy="2768760"/>
            <a:chOff x="992160" y="1855800"/>
            <a:chExt cx="3765600" cy="2768760"/>
          </a:xfrm>
        </p:grpSpPr>
        <p:pic>
          <p:nvPicPr>
            <p:cNvPr id="79" name="그림 18" descr="PASW Statistics 18 - InstallShield Wizard"/>
            <p:cNvPicPr/>
            <p:nvPr/>
          </p:nvPicPr>
          <p:blipFill>
            <a:blip r:embed="rId3"/>
            <a:stretch/>
          </p:blipFill>
          <p:spPr>
            <a:xfrm>
              <a:off x="992160" y="1855800"/>
              <a:ext cx="3765600" cy="27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직사각형 19"/>
            <p:cNvSpPr/>
            <p:nvPr/>
          </p:nvSpPr>
          <p:spPr>
            <a:xfrm>
              <a:off x="3327480" y="4380120"/>
              <a:ext cx="620640" cy="16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1" name="Text Box 341"/>
          <p:cNvSpPr/>
          <p:nvPr/>
        </p:nvSpPr>
        <p:spPr>
          <a:xfrm>
            <a:off x="1303200" y="5372280"/>
            <a:ext cx="34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다음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341"/>
          <p:cNvSpPr/>
          <p:nvPr/>
        </p:nvSpPr>
        <p:spPr>
          <a:xfrm>
            <a:off x="5388120" y="5356080"/>
            <a:ext cx="34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다음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"/>
          <p:cNvGrpSpPr/>
          <p:nvPr/>
        </p:nvGrpSpPr>
        <p:grpSpPr>
          <a:xfrm>
            <a:off x="5327640" y="1844640"/>
            <a:ext cx="3765600" cy="2768760"/>
            <a:chOff x="5327640" y="1844640"/>
            <a:chExt cx="3765600" cy="2768760"/>
          </a:xfrm>
        </p:grpSpPr>
        <p:pic>
          <p:nvPicPr>
            <p:cNvPr id="84" name="그림 14" descr="PASW Statistics 18 - InstallShield Wizard"/>
            <p:cNvPicPr/>
            <p:nvPr/>
          </p:nvPicPr>
          <p:blipFill>
            <a:blip r:embed="rId4"/>
            <a:stretch/>
          </p:blipFill>
          <p:spPr>
            <a:xfrm>
              <a:off x="5327640" y="1844640"/>
              <a:ext cx="3765600" cy="27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직사각형 21"/>
            <p:cNvSpPr/>
            <p:nvPr/>
          </p:nvSpPr>
          <p:spPr>
            <a:xfrm>
              <a:off x="7662960" y="4368960"/>
              <a:ext cx="620640" cy="16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23"/>
          <p:cNvSpPr/>
          <p:nvPr/>
        </p:nvSpPr>
        <p:spPr>
          <a:xfrm>
            <a:off x="596880" y="1449360"/>
            <a:ext cx="8712360" cy="5040360"/>
          </a:xfrm>
          <a:prstGeom prst="rect">
            <a:avLst/>
          </a:prstGeom>
          <a:noFill/>
          <a:ln w="19080">
            <a:solidFill>
              <a:srgbClr val="7f99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584280" y="762120"/>
            <a:ext cx="873756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-머리정체L"/>
                <a:ea typeface="-머리정체L"/>
              </a:rPr>
              <a:t>1. SPSS </a:t>
            </a:r>
            <a:r>
              <a:rPr b="0" lang="ko-KR" sz="1500" spc="-1" strike="noStrike">
                <a:solidFill>
                  <a:srgbClr val="5f5f5f"/>
                </a:solidFill>
                <a:latin typeface="-머리정체L"/>
                <a:ea typeface="-머리정체L"/>
              </a:rPr>
              <a:t>네트워크 버전 설치 매뉴얼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584280" y="1241280"/>
            <a:ext cx="8734320" cy="254160"/>
            <a:chOff x="584280" y="1241280"/>
            <a:chExt cx="8734320" cy="254160"/>
          </a:xfrm>
        </p:grpSpPr>
        <p:pic>
          <p:nvPicPr>
            <p:cNvPr id="89" name="Picture 5" descr="bar02 copy"/>
            <p:cNvPicPr/>
            <p:nvPr/>
          </p:nvPicPr>
          <p:blipFill>
            <a:blip r:embed="rId1">
              <a:lum bright="6000"/>
            </a:blip>
            <a:stretch/>
          </p:blipFill>
          <p:spPr>
            <a:xfrm>
              <a:off x="584280" y="1241280"/>
              <a:ext cx="8734320" cy="2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Rectangle 6"/>
            <p:cNvSpPr/>
            <p:nvPr/>
          </p:nvSpPr>
          <p:spPr>
            <a:xfrm>
              <a:off x="900360" y="1272600"/>
              <a:ext cx="556920" cy="1677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-머리정체L"/>
                  <a:ea typeface="-머리정체L"/>
                </a:rPr>
                <a:t>SPSS </a:t>
              </a:r>
              <a:r>
                <a:rPr b="0" lang="ko-KR" sz="1100" spc="-1" strike="noStrike">
                  <a:solidFill>
                    <a:srgbClr val="003366"/>
                  </a:solidFill>
                  <a:latin typeface="-머리정체L"/>
                  <a:ea typeface="-머리정체L"/>
                </a:rPr>
                <a:t>설치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91" name="Picture 7" descr="A-08-01"/>
            <p:cNvPicPr/>
            <p:nvPr/>
          </p:nvPicPr>
          <p:blipFill>
            <a:blip r:embed="rId2"/>
            <a:srcRect l="61441" t="31628" r="23813" b="59710"/>
            <a:stretch/>
          </p:blipFill>
          <p:spPr>
            <a:xfrm>
              <a:off x="604800" y="1254240"/>
              <a:ext cx="223920" cy="18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Text Box 341"/>
          <p:cNvSpPr/>
          <p:nvPr/>
        </p:nvSpPr>
        <p:spPr>
          <a:xfrm>
            <a:off x="1488960" y="5356080"/>
            <a:ext cx="34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설치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3" name="그룹 16"/>
          <p:cNvGrpSpPr/>
          <p:nvPr/>
        </p:nvGrpSpPr>
        <p:grpSpPr>
          <a:xfrm>
            <a:off x="1028880" y="1992240"/>
            <a:ext cx="3765240" cy="2768760"/>
            <a:chOff x="1028880" y="1992240"/>
            <a:chExt cx="3765240" cy="2768760"/>
          </a:xfrm>
        </p:grpSpPr>
        <p:pic>
          <p:nvPicPr>
            <p:cNvPr id="94" name="그림 17" descr="PASW Statistics 18 - InstallShield Wizard"/>
            <p:cNvPicPr/>
            <p:nvPr/>
          </p:nvPicPr>
          <p:blipFill>
            <a:blip r:embed="rId3"/>
            <a:stretch/>
          </p:blipFill>
          <p:spPr>
            <a:xfrm>
              <a:off x="1028880" y="1992240"/>
              <a:ext cx="3765240" cy="27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직사각형 18"/>
            <p:cNvSpPr/>
            <p:nvPr/>
          </p:nvSpPr>
          <p:spPr>
            <a:xfrm>
              <a:off x="3363840" y="4516560"/>
              <a:ext cx="620640" cy="16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6" name="Text Box 341"/>
          <p:cNvSpPr/>
          <p:nvPr/>
        </p:nvSpPr>
        <p:spPr>
          <a:xfrm>
            <a:off x="5280120" y="5356080"/>
            <a:ext cx="34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확인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7" name="그룹 23"/>
          <p:cNvGrpSpPr/>
          <p:nvPr/>
        </p:nvGrpSpPr>
        <p:grpSpPr>
          <a:xfrm>
            <a:off x="5276880" y="1992240"/>
            <a:ext cx="3765600" cy="2768760"/>
            <a:chOff x="5276880" y="1992240"/>
            <a:chExt cx="3765600" cy="2768760"/>
          </a:xfrm>
        </p:grpSpPr>
        <p:pic>
          <p:nvPicPr>
            <p:cNvPr id="98" name="그림 24" descr="PASW Statistics 18 InstallShield Wizard"/>
            <p:cNvPicPr/>
            <p:nvPr/>
          </p:nvPicPr>
          <p:blipFill>
            <a:blip r:embed="rId4"/>
            <a:stretch/>
          </p:blipFill>
          <p:spPr>
            <a:xfrm>
              <a:off x="5276880" y="1992240"/>
              <a:ext cx="3765600" cy="27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직사각형 20"/>
            <p:cNvSpPr/>
            <p:nvPr/>
          </p:nvSpPr>
          <p:spPr>
            <a:xfrm>
              <a:off x="7612200" y="4516560"/>
              <a:ext cx="620640" cy="16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5:42:32Z</dcterms:created>
  <dc:creator>홍연진</dc:creator>
  <dc:description/>
  <dc:language>en-US</dc:language>
  <cp:lastModifiedBy>workdo</cp:lastModifiedBy>
  <cp:lastPrinted>2010-07-16T00:52:29Z</cp:lastPrinted>
  <dcterms:modified xsi:type="dcterms:W3CDTF">2010-08-31T00:52:31Z</dcterms:modified>
  <cp:revision>638</cp:revision>
  <dc:subject/>
  <dc:title>슬라이드 1</dc:title>
</cp:coreProperties>
</file>